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514-EE32-4937-A881-03A4AEA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868-9A4D-4B6A-874F-4FEB10C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576-34BF-4DC4-B531-53280656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689-4C6B-4338-BF66-86329010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6DF-4BFF-4ACC-8671-A9AFAB5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602-D4CA-4E7B-87F5-9AFE230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6C9-BE47-48D5-B170-49FEB41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1B9-34C9-4D65-97FF-B2A15F0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08A-042F-4DBB-8495-A60DC86F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F99-39E0-4B89-A904-730D934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411-C1FD-4EDA-A186-205C0D7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CA0-2B47-481C-AC53-A36D5B8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561-014E-4B6C-A02B-10D3069F7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800" y="1774800"/>
            <a:ext cx="8778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are some of the differences in spoken Chinese in different parts of China? What are some of the differences in spoken Englis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28003"/>
          <p:cNvSpPr/>
          <p:nvPr/>
        </p:nvSpPr>
        <p:spPr>
          <a:xfrm>
            <a:off x="1275840" y="72864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608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           North 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=3719924234,3394996561&amp;fm=21&amp;gp=0"/>
          <p:cNvPicPr/>
          <p:nvPr/>
        </p:nvPicPr>
        <p:blipFill>
          <a:blip r:embed="rId1"/>
          <a:stretch/>
        </p:blipFill>
        <p:spPr>
          <a:xfrm>
            <a:off x="684360" y="476280"/>
            <a:ext cx="172224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u=2132640778,410682949&amp;fm=21&amp;gp=0"/>
          <p:cNvPicPr/>
          <p:nvPr/>
        </p:nvPicPr>
        <p:blipFill>
          <a:blip r:embed="rId2"/>
          <a:stretch/>
        </p:blipFill>
        <p:spPr>
          <a:xfrm>
            <a:off x="900000" y="292572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u=1385408991,2677695065&amp;fm=23&amp;gp=0"/>
          <p:cNvPicPr/>
          <p:nvPr/>
        </p:nvPicPr>
        <p:blipFill>
          <a:blip r:embed="rId3"/>
          <a:stretch/>
        </p:blipFill>
        <p:spPr>
          <a:xfrm>
            <a:off x="684360" y="4221000"/>
            <a:ext cx="1800000" cy="1154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=1915732653,1853987721&amp;fm=23&amp;gp=0"/>
          <p:cNvPicPr/>
          <p:nvPr/>
        </p:nvPicPr>
        <p:blipFill>
          <a:blip r:embed="rId4"/>
          <a:stretch/>
        </p:blipFill>
        <p:spPr>
          <a:xfrm>
            <a:off x="612720" y="5518080"/>
            <a:ext cx="1943280" cy="134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994120" y="10033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975280" y="10429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114720" y="216864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014880" y="206064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114720" y="3333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151680" y="33876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09760" y="4757760"/>
            <a:ext cx="12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300720" y="44370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371760" y="62755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354720" y="607212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844720" y="83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5724360" y="8269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132000" y="198900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u=2340760041,943120320&amp;fm=21&amp;gp=0"/>
          <p:cNvPicPr/>
          <p:nvPr/>
        </p:nvPicPr>
        <p:blipFill>
          <a:blip r:embed="rId5"/>
          <a:stretch/>
        </p:blipFill>
        <p:spPr>
          <a:xfrm>
            <a:off x="75564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5797440" y="184464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3133800" y="31575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5940360" y="32529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060720" y="4527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6178680" y="4702320"/>
            <a:ext cx="14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400560" y="609912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6516720" y="5877000"/>
            <a:ext cx="7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f you can't come, please__________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打电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are 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 (do ) these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at's another way of _______ (say) " How are you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Paper money ____ for over one thousand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used           B. has been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as used    D. i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8243"/>
          <p:cNvSpPr/>
          <p:nvPr/>
        </p:nvSpPr>
        <p:spPr>
          <a:xfrm>
            <a:off x="5003640" y="119700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m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8244"/>
          <p:cNvSpPr/>
          <p:nvPr/>
        </p:nvSpPr>
        <p:spPr>
          <a:xfrm>
            <a:off x="3203640" y="162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8245"/>
          <p:cNvSpPr/>
          <p:nvPr/>
        </p:nvSpPr>
        <p:spPr>
          <a:xfrm>
            <a:off x="4572000" y="198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笑脸 138246"/>
          <p:cNvSpPr/>
          <p:nvPr/>
        </p:nvSpPr>
        <p:spPr>
          <a:xfrm>
            <a:off x="2700360" y="3141720"/>
            <a:ext cx="431640" cy="43164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612720" y="765000"/>
            <a:ext cx="8136000" cy="2737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sk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ke a conversation to talk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fferences between British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merican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pronunciation, uses, spelling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4360" y="3502080"/>
            <a:ext cx="8135640" cy="27367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ask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you know mor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different languag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a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98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earch for more differences between American English and British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inish the exerci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review next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9 : Ring Up or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580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 ['britiʃ]    adj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国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列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国人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[spel]      spell  [spel] (spelt  spelt)    v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拼，拼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 ['græmə]   n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[træns'let]  V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[ə'mɛrɪkɚn]  adj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国的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 [ɔ:'streiljən] adj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澳大利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澳大利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31073" descr="u=4175922258,3826730577&amp;fm=21&amp;gp=0"/>
          <p:cNvPicPr/>
          <p:nvPr/>
        </p:nvPicPr>
        <p:blipFill>
          <a:blip r:embed="rId1"/>
          <a:stretch/>
        </p:blipFill>
        <p:spPr>
          <a:xfrm>
            <a:off x="3781440" y="1054080"/>
            <a:ext cx="5183280" cy="489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room ['wɑʃru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hroom ['bæθru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32099" descr="u=2678434887,1861881352&amp;fm=23&amp;gp=0"/>
          <p:cNvPicPr/>
          <p:nvPr/>
        </p:nvPicPr>
        <p:blipFill>
          <a:blip r:embed="rId1"/>
          <a:stretch/>
        </p:blipFill>
        <p:spPr>
          <a:xfrm>
            <a:off x="181080" y="333360"/>
            <a:ext cx="712764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32100"/>
          <p:cNvSpPr/>
          <p:nvPr/>
        </p:nvSpPr>
        <p:spPr>
          <a:xfrm>
            <a:off x="5437080" y="2997360"/>
            <a:ext cx="316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prəu,nʌnsi'eiʃən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2101"/>
          <p:cNvSpPr/>
          <p:nvPr/>
        </p:nvSpPr>
        <p:spPr>
          <a:xfrm>
            <a:off x="5437080" y="465300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ou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prə'naʊn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28000" cy="64292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33123"/>
          <p:cNvSpPr/>
          <p:nvPr/>
        </p:nvSpPr>
        <p:spPr>
          <a:xfrm>
            <a:off x="4718160" y="1628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3124"/>
          <p:cNvSpPr/>
          <p:nvPr/>
        </p:nvSpPr>
        <p:spPr>
          <a:xfrm>
            <a:off x="5797080" y="3286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33125"/>
          <p:cNvSpPr/>
          <p:nvPr/>
        </p:nvSpPr>
        <p:spPr>
          <a:xfrm>
            <a:off x="6661080" y="3862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33126"/>
          <p:cNvSpPr/>
          <p:nvPr/>
        </p:nvSpPr>
        <p:spPr>
          <a:xfrm>
            <a:off x="3565440" y="55180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2920" y="380880"/>
            <a:ext cx="9001080" cy="6143760"/>
          </a:xfrm>
          <a:prstGeom prst="rect">
            <a:avLst/>
          </a:prstGeom>
          <a:ln w="0">
            <a:noFill/>
          </a:ln>
        </p:spPr>
      </p:pic>
      <p:sp>
        <p:nvSpPr>
          <p:cNvPr id="56" name="笑脸 134147"/>
          <p:cNvSpPr/>
          <p:nvPr/>
        </p:nvSpPr>
        <p:spPr>
          <a:xfrm>
            <a:off x="611280" y="1484280"/>
            <a:ext cx="360360" cy="576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笑脸 134148"/>
          <p:cNvSpPr/>
          <p:nvPr/>
        </p:nvSpPr>
        <p:spPr>
          <a:xfrm>
            <a:off x="612720" y="2852640"/>
            <a:ext cx="358920" cy="505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笑脸 134149"/>
          <p:cNvSpPr/>
          <p:nvPr/>
        </p:nvSpPr>
        <p:spPr>
          <a:xfrm>
            <a:off x="611280" y="5805360"/>
            <a:ext cx="360360" cy="5032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74600" y="-20520"/>
            <a:ext cx="94154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-based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Brian is busy writing a report on Asia. 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" Ring up " means ______________________ in British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Why do Canadians use "eh" at the end of their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ometimes we describe the same thing in different ways or use different words. (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04000" y="90792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780000" y="12682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l somone on the 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1280" y="3502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y describe the same thing in different ways or use different words.There are also differences in pronunciation and gram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28720" y="59500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有时候我们用不同方式或不同的词描述相同的事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bout the dif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tish 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rican 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mn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g up someon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someone on the 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differ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47:33Z</dcterms:created>
  <dc:creator> </dc:creator>
  <dc:description> </dc:description>
  <dc:language>en-US</dc:language>
  <cp:lastModifiedBy>Administrator</cp:lastModifiedBy>
  <dcterms:modified xsi:type="dcterms:W3CDTF">2019-01-02T02:47:4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